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A55B-B399-4719-9A8D-285A2537D3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 фото слева синими стрелками обозначены "здоровые" клетки, красными - поражённые хламидиями,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 красного круга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– ретикулярное тельце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0E54-3C7B-41B8-83B1-6F339770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195-482C-4020-AD9F-2319530D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A5D2-50A0-4D20-A51E-A3FC5F71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7A1E-76B8-4F52-8DFE-2CF100C1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69B4-848E-4435-8C74-84145A60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4E59-88F6-42B4-B918-6814F44F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06C5-3DB9-472B-853C-2BCEF848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580E-69DD-40F1-9E87-38B20C59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DF38-4285-44FF-95A5-57E23CC2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99BB-AB3C-4E48-BDCA-3305F447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B7F9-A39F-421F-B0A0-C384050E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7A50-CBFF-4F1E-9965-EA8C63FB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CEB4-D5F3-473D-899C-747A2C19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B34A-BC3E-4DBC-8C3F-2C6C9371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8A66-2316-43C5-910C-616CA518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F799-B28E-4B6B-A620-6EF46132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BE73-A24E-4787-8ED6-4BC31C6A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DC5-E95F-4617-AE79-8DA12042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037D-3BEB-4AAE-AC0A-3B754FDD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1B27-00D2-4568-B8EF-83C51189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827-4084-47BE-9AF8-D61C1F6D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BD8A-9319-412D-8872-19EEFEBA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EC12-D083-4C02-8A0F-A1B93E6D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9A56-5E78-4EA4-8074-280B67B8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8051-4F77-41A9-BFBB-52F0DBFDE299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213080" y="645336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©</a:t>
            </a:r>
            <a:r>
              <a:rPr b="1" lang="ru-RU" sz="1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ГНЦ Институт Иммунологии МЗ РФ 200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2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6135-888A-4985-8F65-49984505860E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Инфекции, передающиеся половым путем</a:t>
            </a:r>
            <a:br>
              <a:rPr sz="4400"/>
            </a:b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Шульженко А. Е.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ГНЦ Институт Иммунологии МЗ РФ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Хламидиоз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реамикоплазмоз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Трихомониаз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Гарднереллез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рогенитальный кандидоз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Генитальный герпе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линические проявлени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Инкубационный период длительный (50-60 дней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Заболевание не имеет специфических способностей, начинается с проявлений уретрита (жжение и зуд при мочеиспускании, выделения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Симптоматика может варьировать от ярко выраженной до почти полного отсутствия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У мужчин проявляется в виде уретрита, простатита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У женщин может являться причиной воспалительных заболеваний органов малого таза, патологии беременности, плода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Диагности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Диагностическим критерием является выявление возбудителя  методами культурального исследования, полимеразной цепной реакци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Лечение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imes New Roman"/>
              </a:rPr>
              <a:t>Назначение терапии при клинических проявлениях инфекционно-воспалительных процессах мочеполовых органов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imes New Roman"/>
              </a:rPr>
              <a:t>Лечение проводится антибактериальными препаратами в среднем в течение 2 недель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imes New Roman"/>
              </a:rPr>
              <a:t>Подбор препаратов в соответствии с антибиотикочувствительностью штамма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imes New Roman"/>
              </a:rPr>
              <a:t>Контрольное обследование через 2-3 недели спустя завершения курса терапии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Трихомониаз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дно из наиболее распостраненных заболеваний мочеполового тракта (170 млн. человек в 1995г.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Заражение происходит половым путем при контакте с больным или носителем инфекци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Заболевание вызывается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остейшими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ида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 Trichomonas vaginalis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ichomonas vaginali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6672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жгутиковое простейшее рода трихомонад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битает только в мочеполовой системе человек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у женщин - во влагалище, уретре, у мужчин – в мочеиспускательном канале, предстательной железе, семенных пузырька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не человеческого организма быстро теряет жизнеспособност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701720" y="1469880"/>
            <a:ext cx="5742000" cy="1428840"/>
            <a:chOff x="1701720" y="1469880"/>
            <a:chExt cx="5742000" cy="1428840"/>
          </a:xfrm>
        </p:grpSpPr>
        <p:sp>
          <p:nvSpPr>
            <p:cNvPr id="151" name=""/>
            <p:cNvSpPr/>
            <p:nvPr/>
          </p:nvSpPr>
          <p:spPr>
            <a:xfrm>
              <a:off x="1701720" y="1469880"/>
              <a:ext cx="5742000" cy="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701720" y="1469880"/>
              <a:ext cx="5742000" cy="1428840"/>
              <a:chOff x="1701720" y="1469880"/>
              <a:chExt cx="5742000" cy="1428840"/>
            </a:xfrm>
          </p:grpSpPr>
          <p:sp>
            <p:nvSpPr>
              <p:cNvPr id="153" name=""/>
              <p:cNvSpPr/>
              <p:nvPr/>
            </p:nvSpPr>
            <p:spPr>
              <a:xfrm>
                <a:off x="1701720" y="1469880"/>
                <a:ext cx="5742000" cy="14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01720" y="1469880"/>
                <a:ext cx="5742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5" name="" descr="Трихомонада,Trichomonas vaginalis. х 1600"/>
          <p:cNvPicPr/>
          <p:nvPr/>
        </p:nvPicPr>
        <p:blipFill>
          <a:blip r:embed="rId1"/>
          <a:stretch/>
        </p:blipFill>
        <p:spPr>
          <a:xfrm>
            <a:off x="380880" y="1981080"/>
            <a:ext cx="381024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линические проявлени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Инкубационный период в среднем 5-15 дней (от 2 дней до 1 месяца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Заболевание начинается с уретрита у мужчин и вагинита и уретрита у женщин: характерны жжение и болезненность при мочеиспускании, мутные серовато-желтые выделения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При отсутствии лечения переходит в хроническую форму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Могут развиваться осложнения в виде восходящей инфекции мочевыводящих путей и почек (цистит, пиелит, пиелонефрит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Диагности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Диагноз урогенитального трихомониаза устанавливается при обязательном обнаружении Тrichomonas vaginalis путем лабораторного исследовани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Для диагностики применяется следующие методы: микроскопия мазка из уретры, посевы на питательную среду, метод латекс-агглютинаци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Лечение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Лечение подлежат все пациенты,  у которых обнаружена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richomonas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vaginalis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, а также пациенты с воспалительными процессами, у которых трихомонады не обнаружены, но выявлены у их половых партнеро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Терапия проводится противопротозойными препаратами в среднем в течение 10 дне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Контрольное обследование проводят на 7-10 день после окончания лечени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Гарднереллез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Гарднереллез является частным случаем дисбактериоза влагалища (бактериальный вагиноз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озникает при частной смене половых партнеро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Мужчины часто являются носителями гарднерелл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Страдают более 20% женщин детородного возраст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Часто смешанное инфицирование гарднереллой с гонококками, трихомонадами, хламидиями, микоплазмо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Gardnerella vaginali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5" name="" descr="Гарднереллы (Gardnerella vaginalis) на поверхности ключевых клеток"/>
          <p:cNvPicPr/>
          <p:nvPr/>
        </p:nvPicPr>
        <p:blipFill>
          <a:blip r:embed="rId1"/>
          <a:stretch/>
        </p:blipFill>
        <p:spPr>
          <a:xfrm>
            <a:off x="685800" y="1447920"/>
            <a:ext cx="3200400" cy="3504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Норамальная микрофлора влагалища"/>
          <p:cNvPicPr/>
          <p:nvPr/>
        </p:nvPicPr>
        <p:blipFill>
          <a:blip r:embed="rId2"/>
          <a:stretch/>
        </p:blipFill>
        <p:spPr>
          <a:xfrm>
            <a:off x="4724280" y="1523880"/>
            <a:ext cx="3672000" cy="3429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59960" y="53341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Gardnerella vaginal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31120" y="5105520"/>
            <a:ext cx="374832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ля сравнения -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ормальная микрофлора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лагалищ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Урогенитальный хламидиоз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Одна из самых распространенных ИППП (ежегодно заболевает 89 млн. человек в мире)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Часто протекает мало- или бессимптомно, что представляет наибольшую угрозу в связи поздней диагностикой и несвоевременным назначением лечения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Является одной из основных причин развития вторичного бесплодия у женщин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Инфицируются 50-60% детей, рожденных  от матерей с активной инфекцией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линические проявлени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бильные кремообразные влагалищные выделения серовато-белого цвет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еприятный (рыбный) запах выделени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изнаки воспаления влагалища у половины пациенто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 50% пациенток присутствуют зуд и жжени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Осложнения бактериального вагиноз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ецидивирующие воспалительные заболевания мочеполовой системы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атологические маточные кровотечени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осложнения после операций на органах малого таза и кесаревого сечени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ослеродовый эндометри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реждевременный разрыв плодных оболочек при родах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снижение веса и пневмония у новорожденног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Диагности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Диагностические критерии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гомогенные кремообразные влагалищные выделения, имеющие рыбный запах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Н влагалищного отделяемого &gt; 4,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обнаружение в мазке ключевых клеток (эпителиальные клетки, к которым прикрепляются гарднереллы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аминовый тест: возникновение рыбного запаха при добавлении к выделениями 5% гидроокси калия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Лечение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Терапия антибактериальными препаратами с учетом чувствительности возбудител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Эффективность лечения оценивается по исчезновению клинических симптомов, нормализации лабораторных показателе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Контрольное обследование через 1 неделю после завершения терапии и через 4-6 недел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Урогенитальный кандидоз (молочница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imes New Roman"/>
              </a:rPr>
              <a:t>Вызвана дрожжеподобными грибами рода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Candida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imes New Roman"/>
              </a:rPr>
              <a:t>широко распространены -  75% женщин переносят в течение жизни по крайней мере 1 эпизод молочницы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imes New Roman"/>
              </a:rPr>
              <a:t>попадает в мочеполовые пути при половом контакте, иногда вместе с другими возбудителями (хламидиями, уреаплазмами, вирусами)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imes New Roman"/>
              </a:rPr>
              <a:t>протекают хронически, склонны к рецидивам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ndida albica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862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Относится к условно-патогенным микроорганизмам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азвиваются на слизистых оболочках и коже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наиболее благоприятная температура 21-37°С, оптимальная рН 5,8-6,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2971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Факторы, способствующие развитию урогенитального кандидоза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Основным фактором является ослабление иммунной системы в результате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Терапии антибиотиками, кортикостероидами, цитостатиками, применения гормональных контрацептиво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Эндокринных заболеваний (сахарный диабет, гипотиреоз, полиэндокринопатия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Оперативные вмешательств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Физиологического состояния организма (пожилой возраст, беременность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лини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У женщин наиболее часто процесс локализуется в области наружных половых органов и влагалища и характеризуется следующими симптомами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творожистых выделения белого цвета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зуд, жжение в области наружных половых органо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усиление зуда в тепле (после сна или после ванны), после полового акт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У мужчин поражаются головка полового члена и внутренний листок крайней плоти и сопровождаютс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бело-серым налетом, зудом и жжением в области поражени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андидоносительство (при отсутствии клинических проявлений и обнаружении грибов рода Candida при обследовании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Диагности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Клиническое проявление заболевани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икроскопическое выявление грибов рода Candi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рогенитальный кандидоз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Только микросопическое выявление грибов рода Candida (без клинических проявлений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Кандидоносительств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91120" y="2514600"/>
            <a:ext cx="0" cy="685800"/>
          </a:xfrm>
          <a:prstGeom prst="line">
            <a:avLst/>
          </a:prstGeom>
          <a:ln w="604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5486400"/>
            <a:ext cx="0" cy="685800"/>
          </a:xfrm>
          <a:prstGeom prst="line">
            <a:avLst/>
          </a:prstGeom>
          <a:ln w="604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Лечени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епаратами противогрибковой групп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Ликвидация предрасполагающих факторов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Лечение сопутствующих заболевани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hlamydia trachomati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81952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04960" y="1676520"/>
            <a:ext cx="5638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Являются внутриклеточным паразитом, имеющим две формы существования - элементарные тельца (внеклеточная форма) и ретикулярные тельца (внутриклеточная форма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поражаются органы, покрытые призматическим эпителием (слизистая оболочка уретры, канала шейки матки, маточные трубы, прямая кишка, конъюнктива глаза и глотка)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6080" y="635040"/>
            <a:ext cx="5742000" cy="1428840"/>
            <a:chOff x="46080" y="635040"/>
            <a:chExt cx="5742000" cy="1428840"/>
          </a:xfrm>
        </p:grpSpPr>
        <p:sp>
          <p:nvSpPr>
            <p:cNvPr id="115" name=""/>
            <p:cNvSpPr/>
            <p:nvPr/>
          </p:nvSpPr>
          <p:spPr>
            <a:xfrm>
              <a:off x="46080" y="635040"/>
              <a:ext cx="5742000" cy="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46080" y="635040"/>
              <a:ext cx="5742000" cy="1428840"/>
              <a:chOff x="46080" y="635040"/>
              <a:chExt cx="5742000" cy="1428840"/>
            </a:xfrm>
          </p:grpSpPr>
          <p:sp>
            <p:nvSpPr>
              <p:cNvPr id="117" name=""/>
              <p:cNvSpPr/>
              <p:nvPr/>
            </p:nvSpPr>
            <p:spPr>
              <a:xfrm>
                <a:off x="46080" y="635040"/>
                <a:ext cx="5742000" cy="14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6080" y="635040"/>
                <a:ext cx="5742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136440" y="2073240"/>
            <a:ext cx="8961480" cy="4024440"/>
            <a:chOff x="136440" y="2073240"/>
            <a:chExt cx="8961480" cy="4024440"/>
          </a:xfrm>
        </p:grpSpPr>
        <p:grpSp>
          <p:nvGrpSpPr>
            <p:cNvPr id="120" name=""/>
            <p:cNvGrpSpPr/>
            <p:nvPr/>
          </p:nvGrpSpPr>
          <p:grpSpPr>
            <a:xfrm>
              <a:off x="136440" y="2073240"/>
              <a:ext cx="8961480" cy="4024440"/>
              <a:chOff x="136440" y="2073240"/>
              <a:chExt cx="8961480" cy="402444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136440" y="2073240"/>
                <a:ext cx="8961480" cy="4024440"/>
                <a:chOff x="136440" y="2073240"/>
                <a:chExt cx="8961480" cy="40244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136440" y="2073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36440" y="2073240"/>
                  <a:ext cx="8961480" cy="40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  </a:t>
                  </a:r>
                  <a:r>
                    <a:rPr b="0" lang="en-US" sz="25800" spc="-1" strike="noStrike">
                      <a:solidFill>
                        <a:srgbClr val="ffffcc"/>
                      </a:solidFill>
                      <a:latin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                                                     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136440" y="2073240"/>
                <a:ext cx="8961480" cy="4024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36440" y="2073240"/>
              <a:ext cx="8961480" cy="4024440"/>
            </a:xfrm>
            <a:prstGeom prst="rect">
              <a:avLst/>
            </a:prstGeom>
            <a:noFill/>
            <a:ln w="0">
              <a:solidFill>
                <a:srgbClr val="11111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26" name="" descr="Хламидия, Chlamydia trachomatis"/>
          <p:cNvPicPr/>
          <p:nvPr/>
        </p:nvPicPr>
        <p:blipFill>
          <a:blip r:embed="rId2"/>
          <a:stretch/>
        </p:blipFill>
        <p:spPr>
          <a:xfrm>
            <a:off x="685800" y="1828800"/>
            <a:ext cx="281952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линические проявлени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Инкубационный период - 5-30 дней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Не имеет специфических симптомов, обычно протекает малосимптомно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У мужчин чаще всего поражается слизистая мочеиспускательного канала, прямой кишки, придатки яичек, предстательная железа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У женщин поражается шейка матки, осложнениями являютс сальпингит, сальпингоофорит, а также перигепатит, периаппендицит, пельвиоперитонит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При системном поражении - болезнь Рейтера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Диагностика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Диагностическим критерием является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ыявление хламидий с помощью полимеразной цепной реакции Выявление хламидий  культуральным методо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Выявление  хламидий методом прямой иммунофлюоресценци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Лечение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Лечение антибактериальными препаратами с учетом чувствительности в течение 14-21 дне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Контрольное обследование спустя 3-4 недели после завершения лечени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ритерии излеченности хламидиоз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Исчезновение клинических симптомов заболевани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тсутствие возбудителя при лабораторном обследовании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Уреамикоплазмоз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Широко распространен среди разных групп населени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К группе повышенного риска относятся все женщины детородного возраста, страдающие хроническими воспалительными заболеваниями урогенитального тракта неясной этиологии, а также беременные женщины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ызывается возбудителями семейства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ycoplasmataceae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 - Ureaplasma urealiticum,  Micoplasma hominis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Micoplasma genita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Mycoplasma hominis, Mycoplasma genitalium, Ureaplasma urealyticum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6216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imes New Roman"/>
              </a:rPr>
              <a:t>Способны встраивать в свою оболочку антигены лимфоцитов человека (мимикрия)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imes New Roman"/>
              </a:rPr>
              <a:t>Могут прикрепляться к сперматозоидам, превращая их в носители микоплазм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imes New Roman"/>
              </a:rPr>
              <a:t>Размножение микоплазм может стимулироваться эстрогенами (при беременности)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12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03:39:58Z</dcterms:created>
  <dc:creator>Igor</dc:creator>
  <dc:description/>
  <dc:language>en-US</dc:language>
  <cp:lastModifiedBy>Иван Кокоткин</cp:lastModifiedBy>
  <dcterms:modified xsi:type="dcterms:W3CDTF">2003-04-27T07:19:29Z</dcterms:modified>
  <cp:revision>48</cp:revision>
  <dc:subject/>
  <dc:title>Урогенитальный хламидиоз</dc:title>
</cp:coreProperties>
</file>