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58F-1E7A-4248-B1D2-8C86F94D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307-4BD4-4223-A899-F6B04BCA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7CD-5EFB-4F7E-9CD2-6614BEBA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5D4-9107-454D-B8BD-28F89A75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2728-0AD1-4063-8053-3075C16C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4F21-F5CC-4561-9C70-00C0A98D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51EB-D0F4-43DF-BF03-DD02BBFC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6760-6BA7-496A-B59D-D56C1199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785D-E5FC-4CD6-82FC-528A5B4D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E127-86DF-4FA8-924E-442155D9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EABD-E54E-4441-A4E4-555338B0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58B-3628-4D8E-BF42-26B59FB5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1CE0-BFDA-4AAC-9780-6612F149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F4AA-E83E-480D-B157-BDF9DD5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4EA6-E966-4024-9A22-29D6DD91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BB41-3BD7-4745-AB8B-F8A8ED4A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AB87-468C-4BEA-B0F8-23BEE887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FAD-9658-4485-9947-95622156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A11-5A86-4279-8C8C-8D40971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A20-8E64-4AD1-B47E-F3C501A1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EEA-8938-4AAE-B84B-C363F91E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64F-6D18-416D-84BA-F3B1C53E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BE1-94BF-40C4-8966-BDA73D73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05C-F38B-4015-A345-678D95F1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B9A7-A8A0-4D02-BA6F-07FFCF90F5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43C6-CD74-41E0-BA79-ED0298D2A0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стория изучения генитального герп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92000" y="3429000"/>
            <a:ext cx="7070760" cy="1944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Кокоткин Иван Ю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врач акушер-гинек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Кафедра Акушерства и Гинекологии №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ММА им. И. М. Сече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на изобрела ациклови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640" y="1599840"/>
            <a:ext cx="2736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ась в семье эмигрантов в Нью-Й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ь русская, отец лито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вязи со смертью дедушки от рака решила изобрести лекарство, излечивающее боле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77 году совместно с Джорджем Хитчингсом и Джеймсом Блэком изобрела ациклов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1649520"/>
            <a:ext cx="4067280" cy="2931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79640" y="4959360"/>
            <a:ext cx="30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труда Бэлл Элайо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18 - 1999 г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Российские научные учреждения, изучающие герпес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И вирусологии им. Д. И. Ивановского РАМ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НЦ Институт Иммунологии МЗ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федра кожных болезней ММА им. И. М. Сече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федра акушерства и гинекологии № 1ММА им. И. М. Сече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лючевые этапы в изучении герпе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исательный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0 лет до нашей эры 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0 года нашей э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ериментальный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3-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деление вирусов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2-19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чение свойств вирусов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63-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ермин «Герпес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84000" y="1196640"/>
            <a:ext cx="3124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«Герпес» был введен более чем 2 500 лет назад древнегреческим ученым Гиппокра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пе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pe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древнегреческого ползучий, подкрадывающий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пократ впервые описал проявления боле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лось, что герпес является косметическим деф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я заболевания нето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48520" y="1916280"/>
            <a:ext cx="2427120" cy="2157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96000" y="4437000"/>
            <a:ext cx="303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евнегреческий вр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60-377 до н.э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исательный этап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пес описан в работах Галена, Авиценны, Герод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име в эпоху императора Тиберия запрещены публичные поцелуи с целью предотвращения распространения герпеса г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00 году французский врач Мортон подробно описал проявления герп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 Тюрнер дал первую классификацию герпеса в зависимости от расположения высып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Болезнь французских корол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5000" y="1599840"/>
            <a:ext cx="3124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Людов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дали герпе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жестокие законы были приняты в момент обострения генитального герп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разврату, царившему при дворе Людовиков, большинство придворных страдало герпе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идемия герпеса охватила французских простит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21229200">
            <a:off x="2484000" y="1125360"/>
            <a:ext cx="285912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Экспериментальный этап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341360"/>
            <a:ext cx="6400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экспериментального этапа герпесом было принято заражать добровольцев, чтобы изучать закономерности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тор Видаль заражал одного человека, чтобы посмотреть, как герпес будет передаваться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81 году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ъезде американской ассоциации дерматовенерологов герпес впервые относят к венерическ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12 году немец Грютер увидел клеточные включения содержащие вирус простого герп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Грютер увидел герпес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64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12 году, ровно через 20 лет  после того как россиянин Дмитрий Ивановский открыл вирусы немец В . Грютер увидел под микроскопом клеточные включения, содержащие ВПГ, в жидкости из герпетического пузыр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87172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ни первыми увидели вирус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а Ивановна Козлова  акушер - гинек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 Федорович Пухнер -научный сотрудник в институте полиомиелита и вирусных энцефалитов РАМ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31003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аким вирус герпеса впервые предстал людя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человечество увидело вирус герпеса в 1963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ая фотография вируса была сделана советским ученым Александром Пухнером, он же при помощи электронной микровскопии изучил цикл размножения вир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3348360" cy="224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606640" y="488952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ронная фотограф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ПГ-2. Увеличение Х 4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4:01:22Z</dcterms:created>
  <dc:creator>Иван Кокоткин</dc:creator>
  <dc:description/>
  <dc:language>en-US</dc:language>
  <cp:lastModifiedBy>Иван Кокоткин</cp:lastModifiedBy>
  <dcterms:modified xsi:type="dcterms:W3CDTF">2003-04-27T07:25:21Z</dcterms:modified>
  <cp:revision>7</cp:revision>
  <dc:subject/>
  <dc:title>Генитальный герпес-  история</dc:title>
</cp:coreProperties>
</file>