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496-AAAC-4A82-B2CE-DA961213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F5E-DDE8-4B6F-BCCD-E0F9296E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35A-65F6-40D8-9E08-14D828E7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6A1-A4B1-4796-9912-F463A2E7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23E-4773-484F-8822-FB2F1014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7E4C-1869-4BCF-96B3-2A838A3E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2287-9B42-4CFA-A9CA-4A202F1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6FC-C7CF-4ACA-8408-7BA548FC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11E1-603F-44B1-A213-DA278C41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B8FD-77EE-4C35-822B-7525373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5F7C-A7D3-4036-8DDF-B5F2B20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CA7-8BB7-40FA-B043-A3DD4134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5ED0-5FD2-433F-9504-37E2452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16E-BB79-4C37-A2CF-DDC96597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A06F-71F7-459F-A814-078F00B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07C5-2D48-4B48-B4BF-2EE00624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C57-6E95-41E6-AD9E-1361858B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1AA-0256-4B9D-A145-864A1158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C23-1E16-4973-9CB1-6FF95F2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770-60FA-40AB-982B-D07B1B9D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C61-9DE0-4501-B5E6-19734951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950-C128-4527-886E-D25E61D6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7E0-01A0-426A-A6F3-C27CCA8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AED-F8A4-4E47-87F9-4B10803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0AC-2876-43B0-B5DE-0A116EE5B1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2D8D-6AB3-46B3-A09F-77556B741F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ерпес и иммунная система 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елове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ецифические антите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080" y="1752480"/>
            <a:ext cx="4986360" cy="3720960"/>
            <a:chOff x="838080" y="1752480"/>
            <a:chExt cx="4986360" cy="3720960"/>
          </a:xfrm>
        </p:grpSpPr>
        <p:sp>
          <p:nvSpPr>
            <p:cNvPr id="174" name=""/>
            <p:cNvSpPr/>
            <p:nvPr/>
          </p:nvSpPr>
          <p:spPr>
            <a:xfrm>
              <a:off x="838080" y="2362320"/>
              <a:ext cx="1905120" cy="11430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666880"/>
              <a:ext cx="533520" cy="4572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52840" y="2666880"/>
              <a:ext cx="15192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5120" y="2666880"/>
              <a:ext cx="15192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8120" y="2666880"/>
              <a:ext cx="1512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24280" y="4114800"/>
              <a:ext cx="838080" cy="380520"/>
              <a:chOff x="4724280" y="4114800"/>
              <a:chExt cx="838080" cy="380520"/>
            </a:xfrm>
          </p:grpSpPr>
          <p:sp>
            <p:nvSpPr>
              <p:cNvPr id="180" name=""/>
              <p:cNvSpPr/>
              <p:nvPr/>
            </p:nvSpPr>
            <p:spPr>
              <a:xfrm>
                <a:off x="4724280" y="434304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5333760" y="4114800"/>
                <a:ext cx="228600" cy="228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33760" y="4343040"/>
                <a:ext cx="22860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886200" y="3580920"/>
              <a:ext cx="838080" cy="381600"/>
              <a:chOff x="3886200" y="3580920"/>
              <a:chExt cx="838080" cy="381600"/>
            </a:xfrm>
          </p:grpSpPr>
          <p:sp>
            <p:nvSpPr>
              <p:cNvPr id="184" name=""/>
              <p:cNvSpPr/>
              <p:nvPr/>
            </p:nvSpPr>
            <p:spPr>
              <a:xfrm>
                <a:off x="3886200" y="380988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4495680" y="358092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5680" y="3809880"/>
                <a:ext cx="228600" cy="152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886200" y="4572000"/>
              <a:ext cx="838080" cy="380520"/>
              <a:chOff x="3886200" y="4572000"/>
              <a:chExt cx="838080" cy="380520"/>
            </a:xfrm>
          </p:grpSpPr>
          <p:sp>
            <p:nvSpPr>
              <p:cNvPr id="188" name=""/>
              <p:cNvSpPr/>
              <p:nvPr/>
            </p:nvSpPr>
            <p:spPr>
              <a:xfrm>
                <a:off x="3886200" y="4800240"/>
                <a:ext cx="6094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495680" y="4572000"/>
                <a:ext cx="228600" cy="2282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95680" y="4800240"/>
                <a:ext cx="22860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2971800" y="2437920"/>
              <a:ext cx="91440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1680" y="3962520"/>
              <a:ext cx="152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В-клетка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31360" y="49528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Ig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191120" y="2057400"/>
              <a:ext cx="609480" cy="609480"/>
              <a:chOff x="4191120" y="2057400"/>
              <a:chExt cx="609480" cy="60948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4495680" y="2057400"/>
                <a:ext cx="0" cy="3808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4495680" y="2285640"/>
                <a:ext cx="30492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4191120" y="2285640"/>
                <a:ext cx="30456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43828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266720" y="243828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876920" y="2438280"/>
              <a:ext cx="609480" cy="609480"/>
              <a:chOff x="4876920" y="2438280"/>
              <a:chExt cx="609480" cy="6094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5181480" y="2438280"/>
                <a:ext cx="0" cy="3808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181480" y="2666520"/>
                <a:ext cx="30492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4876920" y="2666520"/>
                <a:ext cx="304560" cy="152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181480" y="281916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952520" y="2819160"/>
                <a:ext cx="228600" cy="228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031000" y="1752480"/>
              <a:ext cx="79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Ig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86400" y="419112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48320" y="365760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34120" y="2743200"/>
              <a:ext cx="228600" cy="22860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3200" y="3429000"/>
              <a:ext cx="762120" cy="60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019920" y="17938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первыми при первичной инфекции и в первые дни активации виру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6990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яются спустя 14 дней при первичной инфекции и остаются на определенном уровне в течение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терферон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9880" y="4572000"/>
            <a:ext cx="1066680" cy="1066680"/>
            <a:chOff x="3809880" y="4572000"/>
            <a:chExt cx="1066680" cy="1066680"/>
          </a:xfrm>
        </p:grpSpPr>
        <p:sp>
          <p:nvSpPr>
            <p:cNvPr id="217" name=""/>
            <p:cNvSpPr/>
            <p:nvPr/>
          </p:nvSpPr>
          <p:spPr>
            <a:xfrm>
              <a:off x="3809880" y="4572000"/>
              <a:ext cx="1066680" cy="10666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800600"/>
              <a:ext cx="380880" cy="3808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160" y="4876560"/>
              <a:ext cx="152640" cy="15264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90760" y="5333760"/>
              <a:ext cx="152640" cy="15264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4952880"/>
              <a:ext cx="152280" cy="1522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715000" y="2057400"/>
            <a:ext cx="1981080" cy="1371600"/>
            <a:chOff x="5715000" y="2057400"/>
            <a:chExt cx="1981080" cy="1371600"/>
          </a:xfrm>
        </p:grpSpPr>
        <p:grpSp>
          <p:nvGrpSpPr>
            <p:cNvPr id="223" name=""/>
            <p:cNvGrpSpPr/>
            <p:nvPr/>
          </p:nvGrpSpPr>
          <p:grpSpPr>
            <a:xfrm>
              <a:off x="5715000" y="2057400"/>
              <a:ext cx="1981080" cy="761760"/>
              <a:chOff x="5715000" y="2057400"/>
              <a:chExt cx="1981080" cy="761760"/>
            </a:xfrm>
          </p:grpSpPr>
          <p:sp>
            <p:nvSpPr>
              <p:cNvPr id="224" name=""/>
              <p:cNvSpPr/>
              <p:nvPr/>
            </p:nvSpPr>
            <p:spPr>
              <a:xfrm>
                <a:off x="6933960" y="2057400"/>
                <a:ext cx="76212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086600" y="2133360"/>
                <a:ext cx="457200" cy="4572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705360" y="2209680"/>
                <a:ext cx="228600" cy="304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15000" y="21333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7391160" y="2895480"/>
              <a:ext cx="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477120" y="3505320"/>
            <a:ext cx="1981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ФН гам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952880" y="4191120"/>
            <a:ext cx="144792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67080" y="57150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11680" y="61722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б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90720" y="1828800"/>
            <a:ext cx="1066680" cy="1523880"/>
            <a:chOff x="990720" y="1828800"/>
            <a:chExt cx="1066680" cy="1523880"/>
          </a:xfrm>
        </p:grpSpPr>
        <p:sp>
          <p:nvSpPr>
            <p:cNvPr id="234" name=""/>
            <p:cNvSpPr/>
            <p:nvPr/>
          </p:nvSpPr>
          <p:spPr>
            <a:xfrm>
              <a:off x="990720" y="1828800"/>
              <a:ext cx="838080" cy="838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1981080"/>
              <a:ext cx="457200" cy="53352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28800" y="213372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1600" y="266688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33520" y="3429000"/>
            <a:ext cx="19047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 альф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191120"/>
            <a:ext cx="152424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905120"/>
            <a:ext cx="83844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057400"/>
            <a:ext cx="457200" cy="5335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220968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27432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3505320"/>
            <a:ext cx="19051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 бе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40384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Иммуносупрессивное действие вируса герпес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мутабельность вирусного гено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выработки антите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выработки интерферо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ение количества и функции цитотоксических лимфоци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гнетение функции естественных киллер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Характеристика иммуносупрессивных состояний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52280" y="1523880"/>
            <a:ext cx="8991360" cy="5029200"/>
            <a:chOff x="152280" y="1523880"/>
            <a:chExt cx="8991360" cy="5029200"/>
          </a:xfrm>
        </p:grpSpPr>
        <p:grpSp>
          <p:nvGrpSpPr>
            <p:cNvPr id="250" name=""/>
            <p:cNvGrpSpPr/>
            <p:nvPr/>
          </p:nvGrpSpPr>
          <p:grpSpPr>
            <a:xfrm>
              <a:off x="158760" y="1527120"/>
              <a:ext cx="8977320" cy="5022000"/>
              <a:chOff x="158760" y="1527120"/>
              <a:chExt cx="8977320" cy="502200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58760" y="1527120"/>
                <a:ext cx="4488120" cy="602280"/>
                <a:chOff x="158760" y="1527120"/>
                <a:chExt cx="4488120" cy="60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55240" y="152712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Факторы,обуславливающие иммунодецици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58760" y="152712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47240" y="1527120"/>
                <a:ext cx="4488840" cy="602280"/>
                <a:chOff x="4647240" y="1527120"/>
                <a:chExt cx="4488840" cy="60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743720" y="152712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Иммунологические отклонени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47240" y="152712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58760" y="2129400"/>
                <a:ext cx="4488120" cy="468720"/>
                <a:chOff x="158760" y="2129400"/>
                <a:chExt cx="4488120" cy="4687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55240" y="212940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Бактериаль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58760" y="212940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647240" y="2129400"/>
                <a:ext cx="4488840" cy="468720"/>
                <a:chOff x="4647240" y="2129400"/>
                <a:chExt cx="4488840" cy="468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743720" y="212940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функции и гибель Т-хелпер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47240" y="212940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158760" y="2598480"/>
                <a:ext cx="4488120" cy="468720"/>
                <a:chOff x="158760" y="2598480"/>
                <a:chExt cx="4488120" cy="4687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5240" y="259848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ротозой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58760" y="259848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647240" y="2598480"/>
                <a:ext cx="4488840" cy="468720"/>
                <a:chOff x="4647240" y="2598480"/>
                <a:chExt cx="4488840" cy="468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743720" y="259848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оражение Т-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47240" y="259848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58760" y="3067200"/>
                <a:ext cx="4488120" cy="602640"/>
                <a:chOff x="158760" y="3067200"/>
                <a:chExt cx="4488120" cy="602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55240" y="3067200"/>
                  <a:ext cx="429516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Вирусные инфек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58760" y="3067200"/>
                  <a:ext cx="448812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647240" y="3067200"/>
                <a:ext cx="4488840" cy="602640"/>
                <a:chOff x="4647240" y="3067200"/>
                <a:chExt cx="4488840" cy="602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743720" y="3067200"/>
                  <a:ext cx="429552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активности и гибель Т-лимфоцитов, нарушение выработки ИФН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47240" y="3067200"/>
                  <a:ext cx="448884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58760" y="3669840"/>
                <a:ext cx="4488120" cy="602280"/>
                <a:chOff x="158760" y="3669840"/>
                <a:chExt cx="4488120" cy="60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55240" y="366984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Дефицит белков, микроэлементов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60" y="366984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647240" y="3669840"/>
                <a:ext cx="4488840" cy="602280"/>
                <a:chOff x="4647240" y="3669840"/>
                <a:chExt cx="4488840" cy="60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43720" y="366984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Уменьшение количества лимфоцитов, снижение их функции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47240" y="366984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58760" y="4272480"/>
                <a:ext cx="4488120" cy="468720"/>
                <a:chOff x="158760" y="4272480"/>
                <a:chExt cx="4488120" cy="46872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55240" y="4272480"/>
                  <a:ext cx="429516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Онкологические заболевани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58760" y="4272480"/>
                  <a:ext cx="448812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647240" y="4272480"/>
                <a:ext cx="4488840" cy="468720"/>
                <a:chOff x="4647240" y="4272480"/>
                <a:chExt cx="4488840" cy="4687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743720" y="4272480"/>
                  <a:ext cx="42955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Подавление активности Т-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47240" y="4272480"/>
                  <a:ext cx="4488840" cy="46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58760" y="4741560"/>
                <a:ext cx="4488120" cy="602280"/>
                <a:chOff x="158760" y="4741560"/>
                <a:chExt cx="4488120" cy="6022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5240" y="474156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Хирургические операции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8760" y="474156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647240" y="4741560"/>
                <a:ext cx="4488840" cy="602280"/>
                <a:chOff x="4647240" y="4741560"/>
                <a:chExt cx="4488840" cy="6022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43720" y="474156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Уменьшение количества лимфоцитов, снижение выработки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антител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47240" y="474156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58760" y="5343840"/>
                <a:ext cx="4488120" cy="602640"/>
                <a:chOff x="158760" y="5343840"/>
                <a:chExt cx="4488120" cy="602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55240" y="5343840"/>
                  <a:ext cx="429516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Радиоактивное облучение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58760" y="5343840"/>
                  <a:ext cx="448812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47240" y="5343840"/>
                <a:ext cx="4488840" cy="602640"/>
                <a:chOff x="4647240" y="5343840"/>
                <a:chExt cx="4488840" cy="602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743720" y="5343840"/>
                  <a:ext cx="4295520" cy="60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развития, функций и гибель лимфоцитов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47240" y="5343840"/>
                  <a:ext cx="4488840" cy="60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158760" y="5946840"/>
                <a:ext cx="4488120" cy="602280"/>
                <a:chOff x="158760" y="5946840"/>
                <a:chExt cx="4488120" cy="6022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55240" y="5946840"/>
                  <a:ext cx="429516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Заболевания эндокринной систем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58760" y="5946840"/>
                  <a:ext cx="448812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647240" y="5946840"/>
                <a:ext cx="4488840" cy="602280"/>
                <a:chOff x="4647240" y="5946840"/>
                <a:chExt cx="4488840" cy="6022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743720" y="5946840"/>
                  <a:ext cx="429552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Нарушение функции Т-лимфоцитов, выработки антител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647240" y="5946840"/>
                  <a:ext cx="4488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5" name=""/>
            <p:cNvSpPr/>
            <p:nvPr/>
          </p:nvSpPr>
          <p:spPr>
            <a:xfrm>
              <a:off x="152280" y="1523880"/>
              <a:ext cx="89913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мплексное противогерпетическое лечение направлено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угнетение репликации возбуд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овышение иммунореактивности организ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3048120"/>
            <a:ext cx="8458200" cy="3567960"/>
            <a:chOff x="228600" y="3048120"/>
            <a:chExt cx="8458200" cy="3567960"/>
          </a:xfrm>
        </p:grpSpPr>
        <p:sp>
          <p:nvSpPr>
            <p:cNvPr id="309" name=""/>
            <p:cNvSpPr/>
            <p:nvPr/>
          </p:nvSpPr>
          <p:spPr>
            <a:xfrm>
              <a:off x="1676520" y="3048120"/>
              <a:ext cx="5410080" cy="520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ротивогерпетические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препараты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4114800"/>
              <a:ext cx="2987640" cy="2226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Ингибиторы репликации вируса (ацикловир, валтрекс, фамвир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3962520"/>
              <a:ext cx="4648320" cy="2653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Иммуномодуляторы, направленные на усиление активности клеток иммунной системы, увеличение выработки интерферонов, антител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437920" y="3581280"/>
              <a:ext cx="762120" cy="53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4800" y="3581280"/>
              <a:ext cx="5335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ммуномодулято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1738440"/>
          <a:ext cx="7772400" cy="4662000"/>
        </p:xfrm>
        <a:graphic>
          <a:graphicData uri="http://schemas.openxmlformats.org/drawingml/2006/table">
            <a:tbl>
              <a:tblPr/>
              <a:tblGrid>
                <a:gridCol w="3809880"/>
                <a:gridCol w="3962520"/>
              </a:tblGrid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ы, восстанавливающие синтез антите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иелопид, полиоксидоний, ликопид, рибомунил, имудон, бронхомун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дукторы интерферо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дан,  ридостин, кагоцел, циклоферон, амикс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параты с поливалентным действие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иоксидний, ликопид, производные имидаз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пецифические стимуляторы иммунного отве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уцифон, левамизол, нуклеинат натрия, витамины, микроэлем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Выбор терапии определяется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нической формой и стадией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ичием сопутствующих заболе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нием иммунной сис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шествующим лечением и его эффективн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емейство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pesvirid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простого герпеса, тип 1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простого герпеса, тип 2 (HSV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ус ветряной оспы/опоясывающего лиш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овирус (CM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 Эпштейна-Барр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B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6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7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песвирус человека 8/Вирус саркомы Капоши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4720" y="65912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3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Ц Институт Иммун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Характеристика вируса герпес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76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ы 150-250 нм в диамет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ухцепочечная молекула ДНК (50% гомологии для ВПГ1 и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множается в эпителиальных и нервных клетк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устойчив во внешней сре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ительно сохраняется при низких температурах (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440" y="2209320"/>
            <a:ext cx="380988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6483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Фазы жизненного цикла вируса герпеса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47242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ктивная фаза – репликация (размножение) в  клетках кожи и слизистых оболоч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тентная фаза  - в интегрированном состоянии в нервных ганглия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523880"/>
          <a:ext cx="73915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3915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Течение герпесвирусной инфекции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447920"/>
            <a:ext cx="2438640" cy="1981080"/>
          </a:xfrm>
          <a:prstGeom prst="rect">
            <a:avLst/>
          </a:prstGeom>
          <a:solidFill>
            <a:srgbClr val="33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Первичная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imes New Roman"/>
              </a:rPr>
              <a:t>инфекция, реинфицирование другими штаммами вируса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640" y="4611600"/>
            <a:ext cx="2838600" cy="117972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кторы противовирусной защи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5562720"/>
            <a:ext cx="3832200" cy="87444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мунная супресс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40240" y="2057400"/>
            <a:ext cx="1703160" cy="117936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атентное состоя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342900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973240" y="2646000"/>
            <a:ext cx="0" cy="1965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791320" y="266688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057400"/>
            <a:ext cx="2057400" cy="1143000"/>
          </a:xfrm>
          <a:prstGeom prst="rect">
            <a:avLst/>
          </a:prstGeom>
          <a:solidFill>
            <a:srgbClr val="0000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ация реплик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0040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2666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43400" y="2646360"/>
            <a:ext cx="8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410080" y="2666880"/>
            <a:ext cx="0" cy="2895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581280"/>
            <a:ext cx="2057400" cy="1281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воцирующие фактор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87692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Факторы, провоцирующие реактивацию вируса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рвный стре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тудные заболе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охлаждение, перегре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Ф-облу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отребление спиртных напит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нструальный цик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факторы противовирусной защи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ецифические антитела к вирусу 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gM, Ig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-лимфоциты (Т-хелперы, цитотоксические лимфоци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ественные килл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фе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-лимфоцит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0" y="1219320"/>
            <a:ext cx="11430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294920"/>
            <a:ext cx="7772400" cy="5565600"/>
            <a:chOff x="762120" y="1294920"/>
            <a:chExt cx="7772400" cy="5565600"/>
          </a:xfrm>
        </p:grpSpPr>
        <p:sp>
          <p:nvSpPr>
            <p:cNvPr id="122" name=""/>
            <p:cNvSpPr/>
            <p:nvPr/>
          </p:nvSpPr>
          <p:spPr>
            <a:xfrm>
              <a:off x="762120" y="2057400"/>
              <a:ext cx="214920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Т-хелперы 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CD4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2057400"/>
              <a:ext cx="297180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</a:rPr>
                <a:t>Цитотоксические лимфоциты</a:t>
              </a: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 CD8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5562360" y="1294920"/>
              <a:ext cx="10666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81680" y="4038480"/>
              <a:ext cx="45720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62120" y="3200400"/>
              <a:ext cx="2148480" cy="838080"/>
              <a:chOff x="762120" y="3200400"/>
              <a:chExt cx="2148480" cy="838080"/>
            </a:xfrm>
          </p:grpSpPr>
          <p:sp>
            <p:nvSpPr>
              <p:cNvPr id="127" name=""/>
              <p:cNvSpPr/>
              <p:nvPr/>
            </p:nvSpPr>
            <p:spPr>
              <a:xfrm>
                <a:off x="762120" y="3200400"/>
                <a:ext cx="838080" cy="8380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3352680"/>
                <a:ext cx="457200" cy="53352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00200" y="3505320"/>
                <a:ext cx="228600" cy="2286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3240" y="342900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D4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869440" y="3276720"/>
              <a:ext cx="1978920" cy="761760"/>
              <a:chOff x="5869440" y="3276720"/>
              <a:chExt cx="1978920" cy="761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086240" y="3276720"/>
                <a:ext cx="762120" cy="761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38880" y="3352680"/>
                <a:ext cx="457200" cy="457200"/>
              </a:xfrm>
              <a:prstGeom prst="ellipse">
                <a:avLst/>
              </a:prstGeom>
              <a:solidFill>
                <a:srgbClr val="99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7640" y="3429000"/>
                <a:ext cx="228600" cy="30492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9440" y="33526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D8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86200" y="4724280"/>
              <a:ext cx="1066680" cy="1066680"/>
              <a:chOff x="3886200" y="4724280"/>
              <a:chExt cx="1066680" cy="10666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86200" y="4724280"/>
                <a:ext cx="1066680" cy="10666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4952880"/>
                <a:ext cx="38088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38480" y="502884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67080" y="548604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72000" y="5105160"/>
                <a:ext cx="152280" cy="15228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048120" y="373392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фицированная клетк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248520" y="3962520"/>
              <a:ext cx="914400" cy="60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4724280"/>
              <a:ext cx="304812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ерфорин, ИФН фрагментины, ФН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952880" y="5105520"/>
              <a:ext cx="457200" cy="304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5867280"/>
              <a:ext cx="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8000" y="640080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Гибел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4038480"/>
              <a:ext cx="914400" cy="60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71600" y="4724280"/>
              <a:ext cx="190512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НФ гамма, ФН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6720" y="5029200"/>
              <a:ext cx="53316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Естественные килле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895480" y="2362320"/>
            <a:ext cx="2895480" cy="1066680"/>
            <a:chOff x="2895480" y="2362320"/>
            <a:chExt cx="2895480" cy="1066680"/>
          </a:xfrm>
        </p:grpSpPr>
        <p:sp>
          <p:nvSpPr>
            <p:cNvPr id="153" name=""/>
            <p:cNvSpPr/>
            <p:nvPr/>
          </p:nvSpPr>
          <p:spPr>
            <a:xfrm>
              <a:off x="2895480" y="2362320"/>
              <a:ext cx="1295280" cy="10666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2590920"/>
              <a:ext cx="457200" cy="3045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0760" y="2743200"/>
              <a:ext cx="228600" cy="228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724280" y="2362320"/>
              <a:ext cx="1066680" cy="1066680"/>
              <a:chOff x="4724280" y="2362320"/>
              <a:chExt cx="1066680" cy="1066680"/>
            </a:xfrm>
          </p:grpSpPr>
          <p:sp>
            <p:nvSpPr>
              <p:cNvPr id="157" name=""/>
              <p:cNvSpPr/>
              <p:nvPr/>
            </p:nvSpPr>
            <p:spPr>
              <a:xfrm>
                <a:off x="4724280" y="2362320"/>
                <a:ext cx="1066680" cy="10666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257800" y="2590920"/>
                <a:ext cx="38088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6560" y="266688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05160" y="3124080"/>
                <a:ext cx="152640" cy="15264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10080" y="2743200"/>
                <a:ext cx="152280" cy="152280"/>
              </a:xfrm>
              <a:prstGeom prst="ellipse">
                <a:avLst/>
              </a:prstGeom>
              <a:solidFill>
                <a:srgbClr val="ff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419360" y="2743200"/>
              <a:ext cx="304920" cy="228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360" y="3429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K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ле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0040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ицированная клет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3581280"/>
            <a:ext cx="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572000"/>
            <a:ext cx="1219320" cy="1143000"/>
          </a:xfrm>
          <a:prstGeom prst="su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87692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486400"/>
            <a:ext cx="152280" cy="15228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876920"/>
            <a:ext cx="389160" cy="312480"/>
          </a:xfrm>
          <a:custGeom>
            <a:avLst/>
            <a:gdLst/>
            <a:ahLst/>
            <a:rect l="l" t="t" r="r" b="b"/>
            <a:pathLst>
              <a:path w="302" h="229">
                <a:moveTo>
                  <a:pt x="0" y="174"/>
                </a:moveTo>
                <a:cubicBezTo>
                  <a:pt x="12" y="142"/>
                  <a:pt x="10" y="103"/>
                  <a:pt x="28" y="74"/>
                </a:cubicBezTo>
                <a:cubicBezTo>
                  <a:pt x="46" y="45"/>
                  <a:pt x="101" y="0"/>
                  <a:pt x="101" y="0"/>
                </a:cubicBezTo>
                <a:cubicBezTo>
                  <a:pt x="109" y="2"/>
                  <a:pt x="154" y="14"/>
                  <a:pt x="165" y="19"/>
                </a:cubicBezTo>
                <a:cubicBezTo>
                  <a:pt x="175" y="24"/>
                  <a:pt x="183" y="30"/>
                  <a:pt x="192" y="37"/>
                </a:cubicBezTo>
                <a:cubicBezTo>
                  <a:pt x="199" y="42"/>
                  <a:pt x="203" y="51"/>
                  <a:pt x="211" y="55"/>
                </a:cubicBezTo>
                <a:cubicBezTo>
                  <a:pt x="240" y="72"/>
                  <a:pt x="273" y="82"/>
                  <a:pt x="302" y="101"/>
                </a:cubicBezTo>
                <a:cubicBezTo>
                  <a:pt x="282" y="162"/>
                  <a:pt x="255" y="209"/>
                  <a:pt x="192" y="229"/>
                </a:cubicBezTo>
                <a:cubicBezTo>
                  <a:pt x="123" y="220"/>
                  <a:pt x="59" y="212"/>
                  <a:pt x="0" y="174"/>
                </a:cubicBezTo>
                <a:close/>
              </a:path>
            </a:pathLst>
          </a:custGeom>
          <a:solidFill>
            <a:srgbClr val="99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50120" y="59436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бе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4:14:03Z</dcterms:created>
  <dc:creator>Igor</dc:creator>
  <dc:description/>
  <dc:language>en-US</dc:language>
  <cp:lastModifiedBy>Иван Кокоткин</cp:lastModifiedBy>
  <dcterms:modified xsi:type="dcterms:W3CDTF">2003-04-29T02:06:18Z</dcterms:modified>
  <cp:revision>49</cp:revision>
  <dc:subject/>
  <dc:title>Герпес и иммунная система  человека</dc:title>
</cp:coreProperties>
</file>