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A75A5-35D9-4ABF-9D6F-1C4B8AB8F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B078A-2051-4FD4-A1BB-B1653D6D1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B1BA6-F217-42D0-8297-4C3922589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7C95E-7708-47ED-835E-69E96AEF4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D12620-2A58-4E4F-9553-D580FA34C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1BBFD3-B7E6-4863-B4FB-B9AC39A78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7D3E2D-D197-400C-B1DB-DE8332C50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919BE8-2A60-49B2-AA16-6C78A2AC1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2599E2-62FB-4BB4-9A4B-342F76CA5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104B03-6453-4861-B63F-B4651CBD5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ABB919-C434-4F82-A440-F4AFB3568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F1005-84E6-4F91-8978-C42E032E2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C58445-21E7-44BD-994C-AFE7FC87D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B18DCD-A2BC-4054-A7AD-967BC7320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433A1F-48DE-4A03-BB12-5EA5C0610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5700B4-1D1D-4848-B5CB-9F698D643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0C7106-F63F-46D2-A7CC-35272AE7B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877D2-958B-47B9-BF49-5D9F66396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462E3-A158-4ED8-84D5-9CF4F6C20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F4E50-0FC6-4D3D-8819-7702C4E35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6439B-F2EA-4329-84AB-8866AD0AC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1474C-C4C8-45BB-8E74-2BAEF856C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F16FC-E2F0-4D76-970C-810A325EA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8300D-1455-4451-97C5-492C92162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5F799-D952-43A8-8DE6-A4FFE8E73E5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6436440" y="6230880"/>
            <a:ext cx="272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©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 Иван Кокоткин 200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3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5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7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9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4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6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50B31-11EE-4302-98BE-8306BDF204D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50560" y="475920"/>
            <a:ext cx="889308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e3e3ff"/>
                </a:solidFill>
                <a:latin typeface="Arial"/>
              </a:rPr>
              <a:t>Генитальный Герпес </a:t>
            </a:r>
            <a:br>
              <a:rPr sz="6000"/>
            </a:br>
            <a:r>
              <a:rPr b="1" lang="ru-RU" sz="4000" spc="-1" strike="noStrike">
                <a:solidFill>
                  <a:srgbClr val="e3e3ff"/>
                </a:solidFill>
                <a:latin typeface="Arial"/>
              </a:rPr>
              <a:t>современные методы лечения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2633760" y="3284280"/>
            <a:ext cx="633096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окоткин Иван Юрьеви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рач акушер – гинеколог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ММА им. Сеченова И. 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афедра Акушерства и Гинекологии №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436440" y="6230880"/>
            <a:ext cx="272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©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 Иван Кокоткин 200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3e3ff"/>
                </a:solidFill>
                <a:latin typeface="Arial"/>
              </a:rPr>
              <a:t>ТЕРАПИЯ, ПОДАВЛЯЮЩАЯ  ГЕНИТАЛЬНЫЙ ГЕРПЕС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3848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Задачи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15b4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едотвращение рецидивов в будуще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15b4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Значительное увеличение межрецидивных промежутков, основанное на длительном постоянном приеме препарато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15b4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нижение заразности для окружающих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15b4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Улучшение качества жизни пациентов с частыми рецидивами генитального герпес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Лечение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15b4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цикловир 400 мг х 2 р/сутки х 6-12 мес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15b4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алтрекс 500 мг х 1-2 р/сутки х 6-12 мес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15b4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Фамвир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250  мг х 2 р/сутки х 6-12 мес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3e3ff"/>
                </a:solidFill>
                <a:latin typeface="Arial"/>
              </a:rPr>
              <a:t>ЭФФЕКТИВНОСТЬ СУПРЕССИВНОЙ ТЕРАПИИ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181480" y="1599840"/>
            <a:ext cx="38102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упресивная терапия в течение 1 года препаратом Фамвир снижает количество рецидивов в 2 раз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1208160" y="1600200"/>
          <a:ext cx="3792600" cy="4495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08160" y="1600200"/>
                    <a:ext cx="3792600" cy="449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3e3ff"/>
                </a:solidFill>
                <a:latin typeface="Arial"/>
              </a:rPr>
              <a:t>ПОЛОВОЕ ПОВЕДЕНИЕ БОЛЬНЫХ С ГЕРПЕСОМ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009760" y="186804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иск  заражения ВИЧ - инфекцией человека с генитальным герпесом в 7 раз выше по сравнению со здоровыми людьм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и случайных контактах нужно обязательно использовать презервати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609480" y="1916280"/>
            <a:ext cx="4033800" cy="358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19320" y="4572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3e3ff"/>
                </a:solidFill>
                <a:latin typeface="Arial"/>
              </a:rPr>
              <a:t>ВИДЫ ЛЕЧЕНИЯ ГЕНИТАЛЬНОГО ГЕРПЕСА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0" y="2565000"/>
            <a:ext cx="8748720" cy="32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Лечения первого в жизни рецидива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Лечение рецидивов генитального герпеса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Подавляющая герпес или супрессивная терапия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436440" y="6230880"/>
            <a:ext cx="272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©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 Иван Кокоткин 200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3e3ff"/>
                </a:solidFill>
                <a:latin typeface="Arial"/>
              </a:rPr>
              <a:t>ПРЕПАРАТЫ ДЛЯ ЛЕЧЕНИЯ ГЕНИТАЛЬНОГО ГЕРПЕСА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-360" y="2361960"/>
            <a:ext cx="4491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циклические нуклеозид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ммуномодулятор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Гексозные гликозид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4653000" y="1996920"/>
            <a:ext cx="4033800" cy="37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3e3ff"/>
                </a:solidFill>
                <a:latin typeface="Arial"/>
              </a:rPr>
              <a:t>АЦИКЛИЧЕСКИЕ НУКЛЕОЗИДЫ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группа лекарственных средств, блокирующих размножение ВПГ I и II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уклеозиды целенаправленно воздействуют на процесс размножения вируса, проникая только в пораженную клетку и не затрагивая здоровую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имеры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Ациклови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Алпизари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Бонафто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Госсипо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зопринози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ксолиновая маз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Хелепи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Флакози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Фоскарне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3e3ff"/>
                </a:solidFill>
                <a:latin typeface="Arial"/>
              </a:rPr>
              <a:t>ПРЕИМУЩЕСТВА АЦИКЛОВИРА, ВАЛТРЕКСА, ФАМВИРА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е влияют на микрофлору кишечника, не вызывают дисбактериоз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Безопасны при длительном приём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акапливаются только в тех клетках, где размножается вирус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очетаются с большинством других лекарст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413000"/>
            <a:ext cx="40384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е влияют на память, внимание, скорость реакци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Безопасны при совместном приеме с алкоголе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е обладает терратогенными и мутагенными эффектами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е влияют на возможность иметь дете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Улучшают качество жизн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3e3ff"/>
                </a:solidFill>
                <a:latin typeface="Arial"/>
              </a:rPr>
              <a:t>ИММУНОМОДУЛЯТОРЫ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95280" y="1197000"/>
            <a:ext cx="403848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Группа препаратов рецептурного отпуска, влияющих на различных звенья иммунитета и в некоторых случаях увеличивающих межрецидивные промежутк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 Западе не применяются в связи с отсутствием достоверных доказательств их эффективности и безопасност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имеры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иферо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екари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лиоксидон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луда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одигиоза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идости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еоферо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-Активи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3e3ff"/>
                </a:solidFill>
                <a:latin typeface="Arial"/>
              </a:rPr>
              <a:t>ГЕКСОЗНЫЕ ГЛИКОЗИДЫ</a:t>
            </a: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Лекарственные средства, препятствующие проникновению вируса в клетк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именяется только во время рецидив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анавир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3e3ff"/>
                </a:solidFill>
                <a:latin typeface="Arial"/>
              </a:rPr>
              <a:t>ПЕРВИЧНЫЙ ГЕНИТАЛЬНЫЙ ГЕРПЕС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3848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Характеризуется: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15b4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ыраженные симптом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15b4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лительное течени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15b4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ольшая область поражени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Лечение: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15b4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цикловир 200 мг х 4 р/сутки х 10 дне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15b4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алтрекс 500 мг х 2 р/сутки х 10 дне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15b4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Фамвир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250  мг х 3 р/сутки х 5 дне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3e3ff"/>
                </a:solidFill>
                <a:latin typeface="Arial"/>
              </a:rPr>
              <a:t>РЕЦИДИВИРУЮЙ ГЕНИТАЛЬНЫЙ ГЕРПЕС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4038480" cy="468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Задачи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15b4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едотвращение дальнейшего развития и лечение текущего рецидива генитального герпес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15b4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збавление пациента от боли и зуда в области половых органов, снижение количества и выраженности высыпани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Лечение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15b4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цикловир 200 мг х 4 р/сутки х 5 дне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15b4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алтрекс 500 мг х 2 р/сутки х 5 дне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15b4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Фамвир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250  мг х 2 р/сутки х 5 дне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9T18:46:27Z</dcterms:created>
  <dc:creator>Иван Кокоткин</dc:creator>
  <dc:description/>
  <dc:language>en-US</dc:language>
  <cp:lastModifiedBy>Иван Кокоткин</cp:lastModifiedBy>
  <dcterms:modified xsi:type="dcterms:W3CDTF">2003-04-27T07:22:35Z</dcterms:modified>
  <cp:revision>14</cp:revision>
  <dc:subject/>
  <dc:title>Генитальный Герпес и Беременность</dc:title>
</cp:coreProperties>
</file>