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DE1-35C6-4BCA-BAD1-A0BFE2E44B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69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3840" y="4284360"/>
            <a:ext cx="5252760" cy="3398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ions start with redness of the skin (and possibly swelling) that may be painful and it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tage is identified by the presence of thin-walled vesicles (blisters) that appear on the surface of the erythematous b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sicles are filled with clear or purulent fluid. The top of these vesicles is very thin and breaks easily, often oozing fl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pe, size, distribution, and duration of the vesicles vary depending on the individual, type of alphaherpesvirus (HSV versus VZV), and type of infection (primary versus recurren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blisters break open, erosions of the skin and ulcers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69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6560" y="4284360"/>
            <a:ext cx="5270400" cy="33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genital herpes is most commonly associated with HSV-2 and HSV-1 with herpes labialis, genital herpes caused by HSV-1 is on the rise as a resu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f orogenital s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jority of genital herpes infections are HSV-2 genital infections and sexual transmission is the primary mode of spread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SV-2 genital infections recur more frequently than HSV-1 genital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6560" y="8228160"/>
            <a:ext cx="5497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ferenc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itley RJ. Herpes simplex viruses. In: Knipe DM, Howley PM, eds.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Fields Virolog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 Vol 2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th ed. Philadelphia, Pa: Lippincott Williams &amp; Wilkins; 2001:2461-2509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44480" y="4296960"/>
            <a:ext cx="5262480" cy="33958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 above are 3 ways genital herpes can manifest in patients with primary and recurrent episo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ally, patients with primary genital herpes experience severe signs and symptoms, whereas recurrent episodes are less sev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ide variation in the presentation of primary and recurrent symptoms may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8180280"/>
            <a:ext cx="51069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400" y="8074080"/>
            <a:ext cx="18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200" y="8238960"/>
            <a:ext cx="58449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ferenc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enital Herpes – A Clinician’s Guide to Diagnosis and Treatment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hicago, Ill: American Medical Association; 2001:1-20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507-DC1A-42E4-90DD-5628B4DA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8FB-D318-4BD0-9C90-B9D19748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F12-0B89-4BDA-A3BB-3B70B600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357-6906-48E7-8F60-C7ECF86E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3748-59BC-44F6-A310-950DD63B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8DA8-0F43-4766-A026-6A608F9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A68-7B26-4B4F-BE48-CA5F0F4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919C-380B-4207-A78E-7392D60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C191-E028-4480-9CF4-8628F47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DC53-1F07-43F2-B576-E8B37DC8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3B1D-CDC6-4AAA-AD6F-B046898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9FD-6D9C-4074-AD72-79D2FB7C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E75E-B537-4DC2-B8F1-ADC9076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12F2-FAF3-43BD-9D71-F528C4B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48F8-DD4A-4B07-A369-8CFA8245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7571-2DA1-4CC4-840C-8A0006CB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A4E-A53F-4873-A07E-ECC3D870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48C-C8DD-4390-A97D-D33D06AA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282-F1AB-47EC-97D7-C1FBBF3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C32-7A93-4198-9BAC-A804988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E4C-57BA-43EA-8A93-38D2AF9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D01-78E2-4815-B636-96677FF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A19-D0C1-4758-94A4-12DD0D5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140-FA17-484F-AF63-40DDFF4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FF0F-3E2F-4563-AECB-BBE73825F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27120" y="65246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 ГНЦ Институт Иммун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28F-174E-4537-B868-9117731BB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5120" y="525600"/>
            <a:ext cx="74120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Простой» герпес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се гениальное- прос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7120" y="65246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 ГНЦ Институт Иммун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Биологические особенности герпесвирус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се герпесвирусы являются внутриклеточными паразит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Герпесвирусы многие годы и даже пожизненно персистируют в клетках ганглиев центральной нервной 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 течение жизни человек многократно реинфицируется новыми штаммами герпесвиру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 человеческом организме возможно одновременное сосуществование нескольких видов и штаммов виру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ирусы активизируются при нарушении динамического равновесия между ними и иммунным гомеостазом (сила специфического противогерпетического иммунного отве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Пути передачи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генитальн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53960" y="1981080"/>
            <a:ext cx="7159680" cy="390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ffff"/>
                </a:solidFill>
                <a:latin typeface="Times New Roman"/>
              </a:rPr>
              <a:t>Половые контакт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генита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орогенита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ана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Особенности клиники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   первичного прост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880" y="2057400"/>
            <a:ext cx="7772400" cy="439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острое начало вирусного проце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большое количество высыпаний, занимающих обширную площад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увеличение и болезненность регионарных лимфатических уз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лихорадка до 39-40 ° 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резкое нарастание уровня антител к ВПГ в сыворотке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Противовирусные системы защит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20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идовой иммунит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20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еспецифический иммунит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20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пецифический иммунный отв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84240" y="22860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Цель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лабораторной диагнос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61960" y="1219320"/>
          <a:ext cx="8136000" cy="5168880"/>
        </p:xfrm>
        <a:graphic>
          <a:graphicData uri="http://schemas.openxmlformats.org/drawingml/2006/table">
            <a:tbl>
              <a:tblPr/>
              <a:tblGrid>
                <a:gridCol w="3939120"/>
                <a:gridCol w="4196880"/>
              </a:tblGrid>
              <a:tr h="272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Определение этиологического фа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Динамическое наблюдение за течением патологического проце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Выявление вириона, генома или антигена виру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Выявление вириона, генома или антигена виру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Динамика титров специфических антите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390760" y="297180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429000"/>
            <a:ext cx="249120" cy="507960"/>
          </a:xfrm>
          <a:prstGeom prst="downArrow">
            <a:avLst>
              <a:gd name="adj1" fmla="val 50000"/>
              <a:gd name="adj2" fmla="val 5097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160" y="609480"/>
            <a:ext cx="817560" cy="650880"/>
          </a:xfrm>
          <a:custGeom>
            <a:avLst/>
            <a:gdLst>
              <a:gd name="textAreaLeft" fmla="*/ 109440 w 817560"/>
              <a:gd name="textAreaRight" fmla="*/ 708120 w 817560"/>
              <a:gd name="textAreaTop" fmla="*/ 113760 h 650880"/>
              <a:gd name="textAreaBottom" fmla="*/ 471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88480" y="533520"/>
            <a:ext cx="811080" cy="672840"/>
          </a:xfrm>
          <a:custGeom>
            <a:avLst/>
            <a:gdLst>
              <a:gd name="textAreaLeft" fmla="*/ 108360 w 811080"/>
              <a:gd name="textAreaRight" fmla="*/ 702720 w 811080"/>
              <a:gd name="textAreaTop" fmla="*/ 117720 h 672840"/>
              <a:gd name="textAreaBottom" fmla="*/ 487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f87a"/>
                </a:solidFill>
                <a:latin typeface="Arial"/>
              </a:rPr>
              <a:t>75 – 90%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взрослого населения являются носителями антител к ВПГ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ПЦР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– как метод выявления вирусов и вирионов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8040"/>
            <a:ext cx="77724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ямое определение возбудителя – выявление специфических участков ДН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кая специфичность – выявление уникального, строго индивидуального фрагмента ДН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кая чувствительность – от 10 до 1000 кл. в про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ниверсальное выявление возбудителя – выявление нескольких возбудителей из одной биопроб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кая скорость получения анализа – унифицированная обработка биоматериалов и детекция продуктов реа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линико-морфологические проявления генитального герпеса (ГГ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22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ервичное инфицирование – без клинических проявл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ервичное инфицирование – с первичным клиническим эпизод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Рецидивирующая форма Г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Атипическая форма Г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Бессимптомное вирусоносительств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Вариант №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вышение титра антител к ВП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рицательная ПЦ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сутствие клинических проявл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Динамическое наблю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Назначение курса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IT+</a:t>
            </a: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А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88620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Вариант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вышение титра антител к ВП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ложительная ПЦ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тсутствие клинических проявл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0720" y="3789360"/>
          <a:ext cx="8042400" cy="3444840"/>
        </p:xfrm>
        <a:graphic>
          <a:graphicData uri="http://schemas.openxmlformats.org/drawingml/2006/table">
            <a:tbl>
              <a:tblPr/>
              <a:tblGrid>
                <a:gridCol w="4120560"/>
                <a:gridCol w="3921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ff"/>
                          </a:solidFill>
                          <a:latin typeface="Times New Roman"/>
                        </a:rPr>
                        <a:t>Атипичное те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ba7fb"/>
                          </a:solidFill>
                          <a:latin typeface="Times New Roman"/>
                        </a:rPr>
                        <a:t>Бессимптомное те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Диагностика и лечение сопутствующей урогенитальной инфе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Динамическое 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Противовирусная терап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VIT + </a:t>
                      </a: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А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390760" y="281952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281952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6440" y="1828440"/>
            <a:ext cx="8329680" cy="36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За 1999 год в мире зарегистрировано 86 млн больных генитальным герпес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В России насчитывается 8 млн больных генитальным герпес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Обращаемость к врачам различных специальностей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дерматологам, гинекологам, урологам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составляет не более 15%от реального количества боль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77880" y="304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Распространенность генитальн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7120" y="65246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 ГНЦ Институт Иммун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Arial"/>
              </a:rPr>
              <a:t>Вариант №3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вышение титра антител к ВП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ложительная ПЦ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линические проявления 1-2 раза в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Транзиторное ИД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4724280"/>
          <a:ext cx="8821800" cy="1030320"/>
        </p:xfrm>
        <a:graphic>
          <a:graphicData uri="http://schemas.openxmlformats.org/drawingml/2006/table">
            <a:tbl>
              <a:tblPr/>
              <a:tblGrid>
                <a:gridCol w="4535280"/>
                <a:gridCol w="42865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Исключение провоцирующего фа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Противовирус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терап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51080" y="6335640"/>
          <a:ext cx="5041800" cy="52236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VIT+</a:t>
                      </a:r>
                      <a:r>
                        <a:rPr b="1" lang="ru-RU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А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447920" y="3581280"/>
            <a:ext cx="245880" cy="1214640"/>
          </a:xfrm>
          <a:custGeom>
            <a:avLst/>
            <a:gdLst>
              <a:gd name="textAreaLeft" fmla="*/ 32760 w 245880"/>
              <a:gd name="textAreaRight" fmla="*/ 213120 w 2458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581280"/>
            <a:ext cx="277920" cy="1214640"/>
          </a:xfrm>
          <a:custGeom>
            <a:avLst/>
            <a:gdLst>
              <a:gd name="textAreaLeft" fmla="*/ 37080 w 277920"/>
              <a:gd name="textAreaRight" fmla="*/ 240840 w 2779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214560" cy="1550880"/>
          </a:xfrm>
          <a:prstGeom prst="downArrow">
            <a:avLst>
              <a:gd name="adj1" fmla="val 50000"/>
              <a:gd name="adj2" fmla="val 18070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Arial"/>
              </a:rPr>
              <a:t>Вариант №4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овышение титра антител к ВП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оложительная ПЦ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Рецидив более 4- 6 раз в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2480" y="2852640"/>
          <a:ext cx="8177400" cy="3697560"/>
        </p:xfrm>
        <a:graphic>
          <a:graphicData uri="http://schemas.openxmlformats.org/drawingml/2006/table">
            <a:tbl>
              <a:tblPr/>
              <a:tblGrid>
                <a:gridCol w="3590280"/>
                <a:gridCol w="4587120"/>
              </a:tblGrid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Транзиторные ИД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Первичное или вторичное ИД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cc"/>
                          </a:solidFill>
                          <a:latin typeface="Times New Roman"/>
                        </a:rPr>
                        <a:t>Оценка противовирусного иммунит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сключение провоцирующего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тивовирусная терап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Иммунотерап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Противовирусная терап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VIT+</a:t>
                      </a:r>
                      <a:r>
                        <a:rPr b="1" lang="ru-RU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А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IT+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Исключение провоцирующего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 flipH="1">
            <a:off x="2244240" y="2565360"/>
            <a:ext cx="139716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1760" y="2565360"/>
            <a:ext cx="132876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3960" y="328464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44600" y="3357720"/>
            <a:ext cx="0" cy="122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34040" y="4267080"/>
            <a:ext cx="6336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429000"/>
            <a:ext cx="106668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Эпидемиология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генитальн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440" y="2286000"/>
            <a:ext cx="8159760" cy="32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Симптоматический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диагносцированный герпес — 5-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Нераспознанный атипичного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течения — 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Бессимптомный герпес — 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Заболеваемость: 80-200 на 100 т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Ежегодный прирост заболеваемости — 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Клинические проявления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    первичного простого герпес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8001000" cy="411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Герпетический  гингивостомат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лабиальный  герп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генитальный  герп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Герпес  борц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герпес  ки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герпес  новорожде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апы клинического развития прост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36400" y="1808280"/>
            <a:ext cx="35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за покраснен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35680" y="3349800"/>
            <a:ext cx="35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узырьковая фа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7120" y="498960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за образования короч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7054" t="0" r="13716" b="35325"/>
          <a:stretch/>
        </p:blipFill>
        <p:spPr>
          <a:xfrm>
            <a:off x="1133640" y="1430280"/>
            <a:ext cx="2033280" cy="127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7498" t="6250" r="48120" b="59686"/>
          <a:stretch/>
        </p:blipFill>
        <p:spPr>
          <a:xfrm>
            <a:off x="1133640" y="3147840"/>
            <a:ext cx="19825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170" t="50204" r="43200" b="1086"/>
          <a:stretch/>
        </p:blipFill>
        <p:spPr>
          <a:xfrm>
            <a:off x="1133640" y="4824360"/>
            <a:ext cx="1982520" cy="12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9840" y="2801880"/>
            <a:ext cx="0" cy="247680"/>
          </a:xfrm>
          <a:prstGeom prst="line">
            <a:avLst/>
          </a:prstGeom>
          <a:ln w="284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9840" y="4506840"/>
            <a:ext cx="0" cy="247680"/>
          </a:xfrm>
          <a:prstGeom prst="line">
            <a:avLst/>
          </a:prstGeom>
          <a:ln w="284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6170760"/>
            <a:ext cx="0" cy="247680"/>
          </a:xfrm>
          <a:prstGeom prst="line">
            <a:avLst/>
          </a:prstGeom>
          <a:ln w="284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8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итальный герпес у мужчи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1891" r="0" b="16131"/>
          <a:stretch/>
        </p:blipFill>
        <p:spPr>
          <a:xfrm>
            <a:off x="2700360" y="2054160"/>
            <a:ext cx="37465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9160" y="185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итальный герпес у женщи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390" t="0" r="3390" b="0"/>
          <a:stretch/>
        </p:blipFill>
        <p:spPr>
          <a:xfrm>
            <a:off x="3476520" y="1919160"/>
            <a:ext cx="2097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02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рпес на губа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68640" y="1900080"/>
            <a:ext cx="475128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7800" y="5865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77880" y="1295280"/>
            <a:ext cx="79912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Простой герпес гениталий – одно из наиболее частых заболеваний, обусловленных ИППП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5:14:15Z</dcterms:created>
  <dc:creator>Шульженко</dc:creator>
  <dc:description/>
  <dc:language>en-US</dc:language>
  <cp:lastModifiedBy>Иван Кокоткин</cp:lastModifiedBy>
  <dcterms:modified xsi:type="dcterms:W3CDTF">2003-04-27T07:30:43Z</dcterms:modified>
  <cp:revision>6</cp:revision>
  <dc:subject/>
  <dc:title>Презентация PowerPoint</dc:title>
</cp:coreProperties>
</file>