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592-76C4-4C9E-BC3B-0EE8716B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D3B7-616F-4F9E-BD4E-24D53820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E82-9BA7-4923-B9CD-1170C972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3D1A-53AB-441B-BF78-451464EF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6EAE-1B35-41A1-8970-DA1A8CF5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CE82-F7A5-4D8D-B2B0-C971274F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94D9-31D0-4BC5-913A-91546258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FD5D-61B0-4BA1-9DEC-7A3D7442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9A3B-EC61-46B1-A770-9EC316A4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6601-FF8C-48B1-841D-91CB401C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7D1A-2E17-47D2-9527-C54CAF74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EE3-EBF2-4B71-BCA4-A9A1BA56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0905-40ED-402B-BCD0-3F70D312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216E-FBD5-4FD2-B2D7-64B5216B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C581-D474-454C-B4DB-DDB22F48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3B91-526E-4869-AAE3-1B7D57A9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A8C9-937D-470F-AC57-19F44474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9DE3-4EBB-4732-8D44-435C1C3E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F53-B422-46BA-BF69-99CAF0D8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219F-00E4-4DEC-A987-628257E4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F1E-5FAE-47D9-9CB8-C44A028E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708-ADF0-4574-8168-263C9AAB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CAE-30C9-464C-B897-0306FBDD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D0A-EA64-44FD-9D6A-B96414B3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84B1-DA7B-4779-AC81-67244FC5948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931360" y="635652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2002 Иван Кокотки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1181-491B-4D22-91BF-FA2DC09B57E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760" y="1066320"/>
            <a:ext cx="6933960" cy="20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Генитальный Герпес и Беременность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0920" y="3733560"/>
            <a:ext cx="63309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Кокоткин Иван Юрьеви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врач акушер – гинеколог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ММА им. Сеченова И. М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Кафедра Акушерства и Гинекологии №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1360" y="635652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2002 Иван Кокотки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РАСПРОСТРАНЕННОСТЬ ГЕНИТАЛЬНОГО ГЕРПЕСА В РОССИЙСКОЙ ФЕДЕРАЦИИ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аселение России -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145 000 00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челове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20%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аселения или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29 000 00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человек больны генитальным герпесом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У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6 000 00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человек рецидивы бывают несколько раз в год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23 000 00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являются бессимптомными носителями генитального герпес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 официальной статистике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8 000 000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россиян страдают генитальным герпесо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1360" y="635652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©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2002 Иван Кокотки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РАЗНОВИДНОСТИ ГЕНИТАЛЬНОГО ГЕРПЕСА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236196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Первый в жизни эпизод генитального герпес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Рецидивирующий генитальный герпе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Непервичный генитальный герпе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181480" y="1996920"/>
            <a:ext cx="38102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ЧАСТОТА НЕОНАТАЛЬНОГО ГЕРПЕСА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05160" y="2057040"/>
            <a:ext cx="3809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Частота возникновения неонатального герпеса 0, 02 %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Или 1 случай на 5 000 родо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Чтобы увидеть случай неонатального герпеса нужно проработать в акушерстве 40 лет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2" name="palata" descr=""/>
          <p:cNvPicPr/>
          <p:nvPr/>
        </p:nvPicPr>
        <p:blipFill>
          <a:blip r:embed="rId1"/>
          <a:stretch/>
        </p:blipFill>
        <p:spPr>
          <a:xfrm>
            <a:off x="1219320" y="2502000"/>
            <a:ext cx="396216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ЕРВИЧНЫЙ ГЕНИТАЛЬНЫЙ ГЕРПЕС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19320" y="1600200"/>
          <a:ext cx="380988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38098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Проявления: поражение кожи, хореоретинит и нарушения ЦНС (микро- или гидроцефалия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Риск возникновения повреждений у плода равен 75%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Характерна высокая смертность или инвалидизация детей до 85%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оражения плода при 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первичном</a:t>
            </a: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генитальном герпесе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0240" y="1676520"/>
            <a:ext cx="2470320" cy="4343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646600" y="1676520"/>
            <a:ext cx="2735280" cy="4267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828800" y="6073920"/>
            <a:ext cx="25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Гидроцефа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4400" y="6019920"/>
            <a:ext cx="25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Анэнцефа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РЕЦИДИВИРУЮЩИЙ ГЕНИТАЛЬНЫЙ ГЕРПЕС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81480" y="159984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В утробе матери заражения плода не происходи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Риск заражения плода в родах составляет от 1 до 4%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Операция Кесарева сечения не снижает риск развития неонатального герпес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01680" y="1600200"/>
          <a:ext cx="38052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1600200"/>
                    <a:ext cx="38052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РОЯВЛЕНИЯ НЕОНАТАЛЬНОГО ГЕРПЕСА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Т.к. ребенок защищен антителами матери, течение герпеса доброкачественно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Поражения проявляются в виде пузырьковой сыпи на кож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Внутриутробного заражения не происходи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herpes_pregnansy" descr="НЕОНАТАЛЬНЫЙ ГЕРПЕС"/>
          <p:cNvPicPr/>
          <p:nvPr/>
        </p:nvPicPr>
        <p:blipFill>
          <a:blip r:embed="rId1"/>
          <a:stretch/>
        </p:blipFill>
        <p:spPr>
          <a:xfrm>
            <a:off x="1219320" y="1828800"/>
            <a:ext cx="3809880" cy="2514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371600" y="4651200"/>
            <a:ext cx="327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  <a:ea typeface="Tahoma"/>
              </a:rPr>
              <a:t>Источник: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ahoma"/>
              </a:rPr>
              <a:t>Герпесвирусные инфекции набор учебных слайдов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»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ahoma"/>
              </a:rPr>
              <a:t>САНА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ahoma"/>
              </a:rPr>
              <a:t> Зудин Б. И. Борисенко К. К. Шарапаренко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ahoma"/>
              </a:rPr>
              <a:t>М. В. фото Краснощекий, Кузнецов А. Ю. Москва 1998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ОВЕДЕНИЕ ВО ВРЕМЯ БЕРЕМЕННОСТИ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81480" y="159984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Исключение орального секса (кунилинг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Обязательное использование презерватив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Строгое соблюдение правил личной гигиен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Местное лечение высыпаний мазь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condom" descr=""/>
          <p:cNvPicPr/>
          <p:nvPr/>
        </p:nvPicPr>
        <p:blipFill>
          <a:blip r:embed="rId1"/>
          <a:stretch/>
        </p:blipFill>
        <p:spPr>
          <a:xfrm>
            <a:off x="1295280" y="1979640"/>
            <a:ext cx="381024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8:46:27Z</dcterms:created>
  <dc:creator>Иван Кокоткин</dc:creator>
  <dc:description/>
  <dc:language>en-US</dc:language>
  <cp:lastModifiedBy>Иван Кокоткин</cp:lastModifiedBy>
  <dcterms:modified xsi:type="dcterms:W3CDTF">2003-04-27T07:27:30Z</dcterms:modified>
  <cp:revision>7</cp:revision>
  <dc:subject/>
  <dc:title>Генитальный Герпес и Беременность</dc:title>
</cp:coreProperties>
</file>